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68560" y="677520"/>
            <a:ext cx="452088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2D7C-6F33-4BAF-9A17-9FCF68C64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F353-1ECF-4CDB-B0A3-F26BF0C9E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177C-94A0-4C72-942F-10EE6F56DA6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85899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40F7-D4A7-4C15-B3E4-8568D246DA3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77880"/>
            <a:ext cx="4520880" cy="3390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86A-3137-48B4-8722-3EAEAA49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B76-940D-4216-86B1-D1B3A049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0A0-020B-47BD-89B7-F94A1258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3FA-67D3-4D9D-9648-68AE57F6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A0CF-8BA3-4D32-9F56-C87A1593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7069-9C76-4967-A18E-3CCC6B0B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6FB1-9BC1-45BD-90D3-7EFDF1D0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F376-AAD4-4505-BAA8-863E253F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2106-6760-4C3B-B327-08B4875F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AE94-249E-4E58-8C17-63500994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AC1C-0E66-455F-8335-F00188FE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F4B-2900-447A-B1F8-D8D2EE85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CC6E-3678-4FE2-AD5E-C793566A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43BB-3F4C-4242-9841-B0906665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26CB-56FE-46CE-AAE6-029DB67B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0984-5BC9-49DB-82DB-B46D5348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5129-B034-4552-8F33-78A4736C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DA4-1C69-4F66-9F3C-9CBE9E11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CE6-E194-4A03-B367-30D8929E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E45-5896-4126-86FA-714EB882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88A-A85A-498E-A732-F6F913A3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A2A-72B5-43C8-8425-A3B360A2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426-8ED8-42A3-BC8C-A78EA71F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D52-0F78-4CC1-8B4C-2D63FBD4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636A-E7EA-4BFB-905D-6B3E67D5F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83C1-0A6F-4B1A-8A9A-91B8A0F927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219320" y="1295280"/>
            <a:ext cx="7010280" cy="3904560"/>
          </a:xfrm>
          <a:prstGeom prst="rect">
            <a:avLst/>
          </a:prstGeom>
          <a:solidFill>
            <a:srgbClr val="cecffa"/>
          </a:solidFill>
          <a:ln w="38160">
            <a:solidFill>
              <a:srgbClr val="0f12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The Quality of Life Index (QLI)</a:t>
            </a:r>
            <a:endParaRPr b="0" lang="en-US" sz="6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ocial Watch Philippines Monitoring Initiatives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457200"/>
            <a:ext cx="7391520" cy="861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Quality of Life Index (QL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sic Capabilities Index (BC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1828800"/>
            <a:ext cx="7315200" cy="4343400"/>
          </a:xfrm>
          <a:prstGeom prst="rect">
            <a:avLst/>
          </a:prstGeom>
          <a:solidFill>
            <a:srgbClr val="ccecff"/>
          </a:solidFill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Times New Roman"/>
                <a:ea typeface="Times New Roman"/>
              </a:rPr>
              <a:t>QLI was adopted by Social Watch International with a slight modification of the Component Indicator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1)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Under-five child mortality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2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Births attended by trained health personnel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3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Elementary Cohort Survival Rate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Verdana"/>
                <a:ea typeface="Times New Roman"/>
              </a:rPr>
              <a:t>Applied Globally and found to be applicable for significant number of countries and highly correlated to HDI, Food Security, overall Health and Educational Attainment.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&lt; 5 mortality ra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severely &amp; moderately underweight children  &lt; 5 years ol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llows the WHO weight-for-age standar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rrelated  to infant mortality, immunization coverage, access to safe water &amp; sanitary facil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FE EXPENCTANCY &amp; HEALTH SERVI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well-nourish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ttended Birth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liveries attended by trained health professionals – doctors, nurses and midw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ted  by the Field health Service Information system of the DO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pability for healthy reprod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lementary CS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enrollees in Grade 1 who reached Grade 6 after 6 years of schoo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iled by schools, municipalities, schools divi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rong correlation with participation rate, functional literacy, achievement tests r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PERFORM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EDUCATED &amp; BE KNOWLEDGEAB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uman Devt Index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expectancy at birt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ult literac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DP per capi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QLI, Income &amp; HD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is strongly associated with inco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measures well-being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rely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n terms of capabil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DI combines income and basic capabil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45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Top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7920" y="1447920"/>
          <a:ext cx="66294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629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6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Bottom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447920"/>
          <a:ext cx="7772400" cy="51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1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313160" y="0"/>
            <a:ext cx="483084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ilippines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193760" y="4114800"/>
            <a:ext cx="3378240" cy="2000160"/>
            <a:chOff x="1193760" y="4114800"/>
            <a:chExt cx="3378240" cy="2000160"/>
          </a:xfrm>
        </p:grpSpPr>
        <p:sp>
          <p:nvSpPr>
            <p:cNvPr id="146" name="Rectangle 6"/>
            <p:cNvSpPr/>
            <p:nvPr/>
          </p:nvSpPr>
          <p:spPr>
            <a:xfrm>
              <a:off x="1216440" y="4209840"/>
              <a:ext cx="638640" cy="1526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193760" y="4572000"/>
              <a:ext cx="639000" cy="17136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1193760" y="5029200"/>
              <a:ext cx="639000" cy="17136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1193760" y="5429160"/>
              <a:ext cx="639000" cy="17136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1193760" y="5829120"/>
              <a:ext cx="639000" cy="171720"/>
            </a:xfrm>
            <a:prstGeom prst="rect">
              <a:avLst/>
            </a:prstGeom>
            <a:solidFill>
              <a:srgbClr val="bebe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2106720" y="4114800"/>
              <a:ext cx="24652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479 - 0.6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601 - 0.7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701 - 0.8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801 - 0.908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Missing data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52" name="Text Box 12"/>
          <p:cNvSpPr/>
          <p:nvPr/>
        </p:nvSpPr>
        <p:spPr>
          <a:xfrm>
            <a:off x="762120" y="380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b071d"/>
                </a:solidFill>
                <a:uFillTx/>
                <a:latin typeface="Arial Unicode MS"/>
                <a:ea typeface="Arial Unicode MS"/>
              </a:rPr>
              <a:t>National Level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541760" y="0"/>
            <a:ext cx="4602240" cy="6789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939960" y="4324320"/>
            <a:ext cx="711000" cy="171360"/>
          </a:xfrm>
          <a:prstGeom prst="rect">
            <a:avLst/>
          </a:prstGeom>
          <a:solidFill>
            <a:srgbClr val="fdf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39960" y="4667400"/>
            <a:ext cx="711000" cy="171360"/>
          </a:xfrm>
          <a:prstGeom prst="rect">
            <a:avLst/>
          </a:prstGeom>
          <a:solidFill>
            <a:srgbClr val="fec8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39960" y="5124600"/>
            <a:ext cx="711000" cy="171360"/>
          </a:xfrm>
          <a:prstGeom prst="rect">
            <a:avLst/>
          </a:prstGeom>
          <a:solidFill>
            <a:srgbClr val="feb1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939960" y="5524560"/>
            <a:ext cx="711000" cy="171360"/>
          </a:xfrm>
          <a:prstGeom prst="rect">
            <a:avLst/>
          </a:prstGeom>
          <a:solidFill>
            <a:srgbClr val="ff9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39960" y="5924520"/>
            <a:ext cx="711000" cy="17136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46240" y="3828960"/>
            <a:ext cx="213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854360" y="4267080"/>
            <a:ext cx="294624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532 - 0.6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601 - 0.7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701 - 0.8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801 - 0.642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Missing data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62120" y="25905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col Region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-270720" y="304920"/>
            <a:ext cx="576324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gion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1981080"/>
            <a:ext cx="7391520" cy="82548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fd7ff"/>
                </a:solidFill>
                <a:uFillTx/>
                <a:latin typeface="Comic Sans MS"/>
              </a:rPr>
              <a:t>Locating the Role of MONITORING in the Advocacy Work of Social Watch Philippines…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04de"/>
                </a:solidFill>
                <a:uFillTx/>
                <a:latin typeface="Arial Unicode MS"/>
              </a:rPr>
              <a:t>Monitoring…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676520" y="3581280"/>
            <a:ext cx="4038480" cy="749160"/>
            <a:chOff x="1676520" y="3581280"/>
            <a:chExt cx="4038480" cy="749160"/>
          </a:xfrm>
        </p:grpSpPr>
        <p:sp>
          <p:nvSpPr>
            <p:cNvPr id="97" name="Rectangle 7"/>
            <p:cNvSpPr/>
            <p:nvPr/>
          </p:nvSpPr>
          <p:spPr>
            <a:xfrm>
              <a:off x="2362320" y="38098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40ca8"/>
                  </a:solidFill>
                  <a:uFillTx/>
                  <a:latin typeface="Arial Unicode MS"/>
                </a:rPr>
                <a:t>Engagement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1676520" y="35812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4267080"/>
            <a:ext cx="5105160" cy="673200"/>
            <a:chOff x="3276720" y="4267080"/>
            <a:chExt cx="5105160" cy="673200"/>
          </a:xfrm>
        </p:grpSpPr>
        <p:sp>
          <p:nvSpPr>
            <p:cNvPr id="100" name="Rectangle 10"/>
            <p:cNvSpPr/>
            <p:nvPr/>
          </p:nvSpPr>
          <p:spPr>
            <a:xfrm>
              <a:off x="3962520" y="44197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30a8f"/>
                  </a:solidFill>
                  <a:uFillTx/>
                  <a:latin typeface="Arial Unicode MS"/>
                </a:rPr>
                <a:t>Influencing Policy 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3276720" y="42670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1066680" y="4648320"/>
            <a:ext cx="7467840" cy="1617120"/>
            <a:chOff x="1066680" y="4648320"/>
            <a:chExt cx="7467840" cy="1617120"/>
          </a:xfrm>
        </p:grpSpPr>
        <p:sp>
          <p:nvSpPr>
            <p:cNvPr id="103" name="Rectangle 13"/>
            <p:cNvSpPr/>
            <p:nvPr/>
          </p:nvSpPr>
          <p:spPr>
            <a:xfrm>
              <a:off x="1066680" y="5257800"/>
              <a:ext cx="6858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2346"/>
                  </a:solidFill>
                  <a:uFillTx/>
                  <a:latin typeface="Arial Unicode MS"/>
                </a:rPr>
                <a:t>Facilitate Participation in Development</a:t>
              </a:r>
              <a:endParaRPr b="0" lang="en-US" sz="3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7772400" y="464832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1028880"/>
            <a:ext cx="175284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371600" y="4038480"/>
            <a:ext cx="2438280" cy="1935360"/>
            <a:chOff x="1371600" y="4038480"/>
            <a:chExt cx="2438280" cy="1935360"/>
          </a:xfrm>
        </p:grpSpPr>
        <p:sp>
          <p:nvSpPr>
            <p:cNvPr id="167" name="Text Box 5"/>
            <p:cNvSpPr/>
            <p:nvPr/>
          </p:nvSpPr>
          <p:spPr>
            <a:xfrm>
              <a:off x="2387520" y="4038480"/>
              <a:ext cx="14223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36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6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8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687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73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371600" y="4095720"/>
              <a:ext cx="749520" cy="1220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371600" y="4552920"/>
              <a:ext cx="749520" cy="12204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1371600" y="4952880"/>
              <a:ext cx="749520" cy="12204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1371600" y="5352840"/>
              <a:ext cx="749520" cy="12240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371600" y="5752800"/>
              <a:ext cx="749520" cy="122400"/>
            </a:xfrm>
            <a:prstGeom prst="rect">
              <a:avLst/>
            </a:prstGeom>
            <a:solidFill>
              <a:srgbClr val="d46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740120" y="1600200"/>
          <a:ext cx="440388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600200"/>
                    <a:ext cx="44038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3"/>
          <p:cNvSpPr/>
          <p:nvPr/>
        </p:nvSpPr>
        <p:spPr>
          <a:xfrm>
            <a:off x="914400" y="2590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Guimaras, 2001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-383760" y="304920"/>
            <a:ext cx="857808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ovincial and Municip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62120" y="990720"/>
            <a:ext cx="7238880" cy="4685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Advantages of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Index can be generated easily using indicators regularly generated by government agencies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an be computed annually without need for expensive surveys and monitoring system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pplicable and effective for both national and local level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swers the need for data disaggregation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nsitive and highly correlated with other poverty/welfare measure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rves as an advocacy tool as it underscores the importance of human development in development planning and public investment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reas for QLI Improve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icators can be modified to improve measurement sensitivity in well-be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like gender-based approach to generate QL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cycle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09680" y="2743200"/>
            <a:ext cx="525780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Verdana"/>
              </a:rPr>
              <a:t>THE END</a:t>
            </a:r>
            <a:endParaRPr b="0" lang="en-US" sz="7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   Pro-Poor Monitoring System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easuring Progress from the Lens of the Poor and the Vulnerable)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Quality of Life Index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Developing alternative Indicators that capture key aspects of Human Development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ternative Budget Initiative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Using MDG as Framework)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   Local Monitoring System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cking Progress and Engagement at Provincial and Municipal Level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5.   MDG Localizatio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nslating the the Global Goals into Local MDG Indicators, Targets, Plans and Strategie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2971800"/>
            <a:ext cx="6934320" cy="18288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Income/expenditure-base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2)  Outcome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3)  Perception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38280" y="1143000"/>
            <a:ext cx="4572000" cy="1068840"/>
          </a:xfrm>
          <a:prstGeom prst="rect">
            <a:avLst/>
          </a:prstGeom>
          <a:solidFill>
            <a:srgbClr val="07f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hree Broad Categories  of Poverty Measures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457200"/>
            <a:ext cx="693432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Categories of Poverty Meas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838080" y="1143000"/>
            <a:ext cx="7620120" cy="518148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Income/Expenditure-Based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fficial Poverty Statistics (based on income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ixed Level Of Living”  or FLOL (based on expenditure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orld Bank’s 1$-a-day approach (PP$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 Outcome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Development Index (H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Poverty Index (HPI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apability Poverty Measure (CPM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Development Index (G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Empowerment Measure (GEM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 Perception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x: Social Weather Stations (SW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fficial Poverty Statis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come-based approach computed from FIES dat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erty incidence computed based on the poverty threshold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reshold level combines food and basic non-food requirements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ixed Level of Living Approach (FLO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veloped by A. Balisacan that is expenditure-based and sets a fixed standard of living used for provincial comparison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2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LOL results to 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ower poverty incidence compared to the official approach and different regional/provincial rankings 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ne Dollar a day (PP$) Poverty Li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orld Bank approach using the poverty line of $1 a day for international comparisons; Based on this, Philippine poverty incidence remain higher than China, Indonesia, Malaysia and Thailand but better than India’s poverty level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Text Box 2051"/>
          <p:cNvSpPr/>
          <p:nvPr/>
        </p:nvSpPr>
        <p:spPr>
          <a:xfrm>
            <a:off x="609480" y="304920"/>
            <a:ext cx="5639040" cy="587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e/Expenditure-Based</a:t>
            </a:r>
            <a:endParaRPr b="0" lang="en-US" sz="3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33720" y="1219320"/>
            <a:ext cx="5257800" cy="228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Operationalizing the Quality of Life Index (QLI)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4419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Local Application of QLI in monitoring poverty and well-being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457200"/>
            <a:ext cx="36576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Index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09480" y="1143000"/>
            <a:ext cx="7848720" cy="434340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is an alternative measure of people’s well-being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t is a derivative of the pure capability-based measure as proposed and popularized by Amartya Sen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measure assigns equal weights to three basic capabilities: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1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to be well-nourished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800" spc="-1" strike="noStrike">
                <a:solidFill>
                  <a:srgbClr val="86001a"/>
                </a:solidFill>
                <a:latin typeface="Verdana"/>
                <a:ea typeface="Times New Roman"/>
              </a:rPr>
              <a:t>Under-five nutrition status</a:t>
            </a:r>
            <a:endParaRPr b="0" lang="en-US" sz="1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for healthy and safe reproduction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Births attended by trained health personne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3) Capability to be educated &amp; be knowledgeable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</a:t>
            </a: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Elementary Cohort Survival Rate</a:t>
            </a:r>
            <a:r>
              <a:rPr b="1" lang="en-US" sz="2000" spc="-1" strike="noStrike">
                <a:solidFill>
                  <a:srgbClr val="86001a"/>
                </a:solidFill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6248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1295280"/>
            <a:ext cx="8001000" cy="3478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Main Feat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applies a pure capability-based approach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consistent with existing national and international statistical system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applicable for both national and local level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provinces, municipalities and barangays)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omplements HDI and Income-based poverty measure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6:41:46Z</dcterms:created>
  <dc:creator>Direk</dc:creator>
  <dc:description/>
  <dc:language>en-US</dc:language>
  <cp:lastModifiedBy>anaclau</cp:lastModifiedBy>
  <dcterms:modified xsi:type="dcterms:W3CDTF">2009-10-25T07:33:26Z</dcterms:modified>
  <cp:revision>81</cp:revision>
  <dc:subject/>
  <dc:title>General</dc:title>
</cp:coreProperties>
</file>